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The%20KMPLayer!/KMPlayer.exe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уководство по плэйер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00536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218D-63C4-4830-8235-8CD160EA8A7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НИМАНИЕ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роигрывания видеоклипов, анимаций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айлов на которые делаются ссылки в презент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меется прилагаемый плэйер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The KMPLay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Просто перетаскивайте файл на значок плэй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KMPlayer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В папке имеется так же автоинсталяционн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этого плэйер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kmp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Которая устанавливается при запу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3BCF-EA82-4F2C-97F8-D7B874E8AB6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1:18:33Z</dcterms:modified>
  <cp:revision>98</cp:revision>
  <dc:subject/>
  <dc:title>Lecture Template </dc:title>
</cp:coreProperties>
</file>